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451-85DE-462F-AA39-5374DDB6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48C-0DA1-4CE7-B2A0-E36BACAD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8AF-059D-4BAB-B756-EBDA1A44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D25-D05D-4955-A718-B0729D67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326F-5039-4E71-A5B7-FCE2D7B4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9AF-50F1-48E6-AEA5-596D39FF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9018-D466-43FB-B94E-7D69EC2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CD3A-429A-4F8A-92EF-6CED9B3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7D71-FB98-4B73-86AF-EA2C32D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018-F5CE-4C31-BB7B-A4A0036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F6FD-BFAB-48DB-AB5E-870A1B3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34C-F52B-4EC0-BEA2-B0E8C33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B02-FD61-4E37-8938-B1679AE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83A-C2B1-45EA-B291-5FFD80E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823-4DD2-440B-B5AD-730BE4E7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CC5-2EFF-4C8F-9BB6-6676CD90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6D1-30F8-4DCF-9792-D1801199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70A8-AA7D-4554-8050-3EB8F29C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B6E6-12F3-4D49-9A8D-C1E76B1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80E9-052E-486B-A76E-5188892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BAE6-BBE3-4FFE-8A32-25E4D75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18D4-1293-4D45-BC7C-7B5FC67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8FA-1637-45D8-8073-3A614B57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5C54-9CFE-4F05-8BB5-AD251DD1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ABCA-9AC5-445D-9074-F0A495B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2100-39F8-44F3-8E9C-30575E6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DC61-F9E5-48E2-AE34-130DD09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D308-E65C-4A2C-9316-C8C74634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5C58-DA3B-4B1D-9944-39FAA646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2B78-B94B-4F87-8A84-A789A6F8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1EFB-2071-42F3-9768-E163B4B4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A358-F9DE-44CC-AFAE-2757F36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C6D4-B0CD-496C-8441-A78D54A6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BB8-4D2C-4A95-A1E6-30AA454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EFF6-2B61-49CD-BABB-8F71FCA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A91D-E457-413B-9F63-DDDE364B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654A-79B4-436C-9BB2-6D32D2C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0993-FAAD-4D1B-B516-580BB669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4FB6-7C59-4792-845A-6017175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5FA8-6D01-4210-87DF-5EE0DBD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F5F1E-1875-4D7A-885C-C47963A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CB41-8417-4AF4-B3C6-DD36B12B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3E6A-4229-494A-97A7-C5F33E8E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677D9-D1A9-4817-A19F-F8C8F6C6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539-CFBE-4966-9DCF-BBA0E3AF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EECF-5512-44AD-B748-5F80914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EC85-5152-4432-816B-30779AE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4809-F272-48A9-98DB-0581A6E6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8095-593D-4F75-BFB1-746E26EA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67FF-02A3-4862-841F-152AC4B2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0566-27DF-40FD-8EB9-830D1A8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F1C6-A305-4DD6-B767-43B0362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1D24-0ECE-4B5F-B596-0AD67FC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9FD2-AFDA-40F4-A0A8-AF985868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1C8F-8DA2-4B53-B94E-6C65F56A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80F-93F4-4BFA-AA1A-221613BC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4A54-3003-4160-9830-7E4CF520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DBE9-E2AE-4A53-8784-B6641495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C1C19-A88D-451A-B928-505FE489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A341-EEEC-4912-8805-BE2DF58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2B54-5A9E-40CA-9114-A114CF9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C8EF-F044-4ECD-A425-34FF8D88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D09D-AF32-4F3F-A56A-A67416B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62CD-3ECE-4480-B9F3-7D959FA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3D1A-FA07-4F19-AEB9-615E1B7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9BB4-184F-4D4C-B773-DD0197F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FF1-A474-4C36-844E-BDED9AF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1C61-B4A3-4636-A0E0-D4CCF68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E72C-F94A-4824-9B18-B0E56515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AD9BE-FDFE-458D-840C-9FBB0164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A78E-E29A-4942-A69F-BB709868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B7E0-63E8-44EA-B3D6-DEAE237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0065-C4DB-47F8-B980-2805887C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9D1D-5799-4F73-95B7-305FF7A7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36241-F625-4224-BF14-72EA9C2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CBB61-B417-469F-9553-CE9E0BA5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8F5E-0DC2-4369-9D1D-E650738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BD4-1118-4160-A1BD-D2F9500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298B-DE54-4A18-879E-65AF365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DBF1-542F-4D08-ACE7-845EE599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41E97-4049-44A9-9F38-8317DE73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1BF28-C4F6-439E-AF21-EDAE5A2B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CF69-71F6-4022-91DB-A57530C5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25073-7BA8-484C-8AAC-C8FEA515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3C736-ADEB-4807-A305-F334AE0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1BED1-D474-495C-87FB-2665B52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D37F-9055-4A63-9AAD-1A1D303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5E23-DEB8-4DA6-A142-8E29399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839-69DE-4960-A479-827B94F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8184-9BC6-42CB-A1FD-887DDC1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C864-4F7F-4878-A972-5E4C175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5E5B9-0AD5-4C2D-9669-D325073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85F2C-BBF9-4BA4-8117-D343FB4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F6855-9C1B-47D4-AFA4-DD1930D1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3F17-2066-4CBC-BFE0-0FE8A93D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3987-B547-4F52-A2BC-B8C714B9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4745-5D4F-44F7-8593-B7C0CFD8A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74F-AF03-4907-BA74-6907980A7CA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33F0-2285-4B6E-BD31-6D057441A9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7DEF-9FD9-43E5-8C98-D5AE23E035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C594-1551-4F7B-9E68-A1DD0F3408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8F8A-C26D-4713-83F8-133FDAB8B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788-5EC1-444F-9A7F-C7C1AB43393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92A0-C84E-4955-AAD8-36EDB32D805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257,2,&#1055;&#1083;&#1072;&#1089;&#1090;&#1080;&#1095;&#1077;&#1089;&#1082;&#1086;&#1077; &#1080;&#1089;&#1082;&#1091;&#1089;&#1089;&#1090;&#1074;&#1086;" TargetMode="External"/><Relationship Id="rId4" Type="http://schemas.openxmlformats.org/officeDocument/2006/relationships/hyperlink" Target="258,3,&#1042;&#1088;&#1077;&#1084;&#1077;&#1085;&#1085;" TargetMode="External"/><Relationship Id="rId5" Type="http://schemas.openxmlformats.org/officeDocument/2006/relationships/hyperlink" Target="259,4,&#1057;&#1083;&#1072;&#1081;&#1076; 4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47" name="Схема 3" descr="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73128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6"/>
          <p:cNvSpPr/>
          <p:nvPr/>
        </p:nvSpPr>
        <p:spPr>
          <a:xfrm rot="1791600">
            <a:off x="214200" y="3286080"/>
            <a:ext cx="4000680" cy="57168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пластическо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2857680" y="5429160"/>
            <a:ext cx="3286080" cy="57168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времен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Прямоугольник 8"/>
          <p:cNvSpPr/>
          <p:nvPr/>
        </p:nvSpPr>
        <p:spPr>
          <a:xfrm rot="20115000">
            <a:off x="4929120" y="3357720"/>
            <a:ext cx="4214880" cy="642960"/>
          </a:xfrm>
          <a:prstGeom prst="rect">
            <a:avLst/>
          </a:prstGeom>
          <a:solidFill>
            <a:srgbClr val="0d0d0d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синтетически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1" name="Прямая со стрелкой 11"/>
          <p:cNvCxnSpPr/>
          <p:nvPr/>
        </p:nvCxnSpPr>
        <p:spPr>
          <a:xfrm>
            <a:off x="4428000" y="1785960"/>
            <a:ext cx="72360" cy="3572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2" name="Прямая со стрелкой 12"/>
          <p:cNvCxnSpPr/>
          <p:nvPr/>
        </p:nvCxnSpPr>
        <p:spPr>
          <a:xfrm flipH="1">
            <a:off x="2580480" y="1785960"/>
            <a:ext cx="1848600" cy="16531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3" name="Прямая со стрелкой 13"/>
          <p:cNvCxnSpPr/>
          <p:nvPr/>
        </p:nvCxnSpPr>
        <p:spPr>
          <a:xfrm>
            <a:off x="4429080" y="1785600"/>
            <a:ext cx="1858320" cy="1857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00040" y="928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то пространственные искусства, произведения имеют предметный характер, создаются путем обработки материала и существуют в реальном пространств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Схема 3" descr=""/>
          <p:cNvPicPr/>
          <p:nvPr/>
        </p:nvPicPr>
        <p:blipFill>
          <a:blip r:embed="rId2"/>
          <a:stretch/>
        </p:blipFill>
        <p:spPr>
          <a:xfrm>
            <a:off x="-19080" y="3541680"/>
            <a:ext cx="9182160" cy="3187800"/>
          </a:xfrm>
          <a:prstGeom prst="rect">
            <a:avLst/>
          </a:prstGeom>
          <a:ln w="0">
            <a:noFill/>
          </a:ln>
        </p:spPr>
      </p:pic>
      <p:sp>
        <p:nvSpPr>
          <p:cNvPr id="357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835812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72a1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8:47:47Z</dcterms:created>
  <dc:creator>Admin</dc:creator>
  <dc:description/>
  <dc:language>en-US</dc:language>
  <cp:lastModifiedBy>Admin</cp:lastModifiedBy>
  <dcterms:modified xsi:type="dcterms:W3CDTF">2009-09-23T19:20:06Z</dcterms:modified>
  <cp:revision>5</cp:revision>
  <dc:subject/>
  <dc:title>Слайд 1</dc:title>
</cp:coreProperties>
</file>